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CFAC-8C1E-4387-AC32-259F4DF7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619A8-0678-4C7A-8B00-FA337D19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1BC3D-8483-4176-9796-84C1948B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47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65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47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65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635B2-AA17-4691-AEA9-F9ADAE68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007892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9C622-227E-4489-A5E4-4F67D549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647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65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647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65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9E5B-226E-4595-993D-C6834168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A8E1-CB43-4B74-B251-734DACDC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C6AE-FE8D-472D-8AE3-A010E121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007892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228B-4A2E-4D63-A0DC-CD4A568E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9D28-646D-4F6A-9713-18F6C41D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DBCEA-0C54-402A-B4D6-C99478CF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67531-B50B-4F16-9780-4AA443E6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7056360"/>
            <a:ext cx="10078920" cy="503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78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1880" indent="-357120">
              <a:lnSpc>
                <a:spcPct val="76000"/>
              </a:lnSpc>
              <a:spcAft>
                <a:spcPts val="1426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0240" indent="-360360">
              <a:lnSpc>
                <a:spcPct val="76000"/>
              </a:lnSpc>
              <a:spcAft>
                <a:spcPts val="1426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434960" indent="-363240">
              <a:lnSpc>
                <a:spcPct val="76000"/>
              </a:lnSpc>
              <a:spcAft>
                <a:spcPts val="1426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868400" indent="-357120">
              <a:lnSpc>
                <a:spcPct val="76000"/>
              </a:lnSpc>
              <a:spcAft>
                <a:spcPts val="1426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4" marL="2298600" indent="-357120">
              <a:lnSpc>
                <a:spcPct val="76000"/>
              </a:lnSpc>
              <a:spcAft>
                <a:spcPts val="1426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5" marL="2298600" indent="-3571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Dingbat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6" marL="2298600" indent="-3571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Dingbat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428800" y="7178400"/>
            <a:ext cx="26924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2000" spc="-1" strike="noStrike">
                <a:solidFill>
                  <a:srgbClr val="ff0000"/>
                </a:solidFill>
                <a:latin typeface="Arial"/>
                <a:ea typeface="DejaVuSans"/>
              </a:defRPr>
            </a:lvl1pPr>
          </a:lstStyle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  <a:ea typeface="DejaVuSans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27720" y="7178400"/>
            <a:ext cx="52380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2000" spc="-1" strike="noStrike">
                <a:solidFill>
                  <a:srgbClr val="ffff00"/>
                </a:solidFill>
                <a:latin typeface="Arial"/>
                <a:ea typeface="DejaVuSans"/>
              </a:defRPr>
            </a:lvl1pPr>
          </a:lstStyle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A5A91-FB64-4DFF-82CA-D9E9B1DCF7DA}" type="slidenum">
              <a:rPr b="0" i="1" lang="en-GB" sz="2000" spc="-1" strike="noStrike">
                <a:solidFill>
                  <a:srgbClr val="ffff00"/>
                </a:solidFill>
                <a:latin typeface="Arial"/>
                <a:ea typeface="DejaVuSan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1828440" y="7178400"/>
            <a:ext cx="358452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2000" spc="-1" strike="noStrike">
                <a:solidFill>
                  <a:srgbClr val="ff0000"/>
                </a:solidFill>
                <a:latin typeface="Arial"/>
                <a:ea typeface="DejaVuSans"/>
              </a:defRPr>
            </a:lvl1pPr>
          </a:lstStyle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  <a:ea typeface="DejaVuSans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440" y="1192320"/>
            <a:ext cx="10079280" cy="1825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240" y="1192320"/>
            <a:ext cx="10078920" cy="18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9920" y="9140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343400" y="2971440"/>
            <a:ext cx="178128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7000"/>
          </a:bodyPr>
          <a:p>
            <a:pPr marL="116280" indent="-87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ae00"/>
              </a:solidFill>
              <a:latin typeface="Arial"/>
            </a:endParaRPr>
          </a:p>
          <a:p>
            <a:pPr lvl="1" marL="232920" indent="-77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ae00"/>
              </a:solidFill>
              <a:latin typeface="Arial"/>
            </a:endParaRPr>
          </a:p>
          <a:p>
            <a:pPr lvl="2" marL="349560" indent="-57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ae00"/>
              </a:solidFill>
              <a:latin typeface="Arial"/>
            </a:endParaRPr>
          </a:p>
          <a:p>
            <a:pPr lvl="3" marL="466200" indent="-58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ae00"/>
              </a:solidFill>
              <a:latin typeface="Arial"/>
            </a:endParaRPr>
          </a:p>
          <a:p>
            <a:pPr lvl="4" marL="582840" indent="-57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ae00"/>
              </a:solidFill>
              <a:latin typeface="Arial"/>
            </a:endParaRPr>
          </a:p>
          <a:p>
            <a:pPr lvl="5" marL="582840" indent="-57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ae00"/>
              </a:solidFill>
              <a:latin typeface="Arial"/>
            </a:endParaRPr>
          </a:p>
          <a:p>
            <a:pPr lvl="6" marL="582840" indent="-57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ae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40" y="7089840"/>
            <a:ext cx="10079280" cy="480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429160" y="7178760"/>
            <a:ext cx="2694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  <a:ea typeface="DejaVuSans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7178760"/>
            <a:ext cx="3586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  <a:ea typeface="DejaVuSans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40" y="3240"/>
            <a:ext cx="10078920" cy="18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43000" y="5633640"/>
            <a:ext cx="77724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algn="ctr">
              <a:lnSpc>
                <a:spcPts val="18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Stichting ASTRON (Netherlands Institute for Radio Astronomy)</a:t>
            </a:r>
            <a:r>
              <a:rPr b="0" i="1" lang="en-GB" sz="1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2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Dwingeloo, 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6213600"/>
            <a:ext cx="3200400" cy="87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086600" y="6107040"/>
            <a:ext cx="2981160" cy="97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9920" y="9144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OLAP LOFAR20 Step 1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2971800"/>
            <a:ext cx="29383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John W. Rom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P. Chris Broek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Martin 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Jan David 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Rob van Nieuwpo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10080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chieved in Step 1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4320" y="1603080"/>
            <a:ext cx="905652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1880" indent="-357120">
              <a:lnSpc>
                <a:spcPct val="76000"/>
              </a:lnSpc>
              <a:spcAft>
                <a:spcPts val="1426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 stappenplan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0240" indent="-360360">
              <a:lnSpc>
                <a:spcPct val="76000"/>
              </a:lnSpc>
              <a:spcAft>
                <a:spcPts val="1137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version to ITRF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0240" indent="-360360">
              <a:lnSpc>
                <a:spcPct val="76000"/>
              </a:lnSpc>
              <a:spcAft>
                <a:spcPts val="1137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 tied-array beam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(not verified; slow)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0240" indent="-360360">
              <a:lnSpc>
                <a:spcPct val="76000"/>
              </a:lnSpc>
              <a:spcAft>
                <a:spcPts val="1137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ion broadcast check scrip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61880" indent="-357120">
              <a:lnSpc>
                <a:spcPct val="76000"/>
              </a:lnSpc>
              <a:spcAft>
                <a:spcPts val="1426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thers: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0240" indent="-360360">
              <a:lnSpc>
                <a:spcPct val="76000"/>
              </a:lnSpc>
              <a:spcAft>
                <a:spcPts val="1137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/8/16 bit sam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0240" indent="-360360">
              <a:lnSpc>
                <a:spcPct val="76000"/>
              </a:lnSpc>
              <a:spcAft>
                <a:spcPts val="1137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ull station mode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(up to 992 subbands)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0240" indent="-360360">
              <a:lnSpc>
                <a:spcPct val="76000"/>
              </a:lnSpc>
              <a:spcAft>
                <a:spcPts val="1137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st network protocol I/O nod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↔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ompute nod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0240" indent="-360360">
              <a:lnSpc>
                <a:spcPct val="76000"/>
              </a:lnSpc>
              <a:spcAft>
                <a:spcPts val="1137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/O node optimizatio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0240" indent="-360360">
              <a:lnSpc>
                <a:spcPct val="76000"/>
              </a:lnSpc>
              <a:spcAft>
                <a:spcPts val="1137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PF bandpas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0240" indent="-360360">
              <a:lnSpc>
                <a:spcPct val="76000"/>
              </a:lnSpc>
              <a:spcAft>
                <a:spcPts val="1137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ynchronous transpos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0240" indent="-360360">
              <a:lnSpc>
                <a:spcPct val="76000"/>
              </a:lnSpc>
              <a:spcAft>
                <a:spcPts val="1137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ny cleanup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LAP LOFAR20 Step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72609-5A4E-4C26-8638-0A43B05F1A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1th,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100807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Plans for Step 2</a:t>
            </a:r>
            <a:endParaRPr b="1" i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8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1880" indent="-357120">
              <a:lnSpc>
                <a:spcPct val="76000"/>
              </a:lnSpc>
              <a:spcAft>
                <a:spcPts val="1426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/O no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0240" indent="-360360">
              <a:lnSpc>
                <a:spcPct val="76000"/>
              </a:lnSpc>
              <a:spcAft>
                <a:spcPts val="1137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inish performance improvement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0240" indent="-360360">
              <a:lnSpc>
                <a:spcPct val="76000"/>
              </a:lnSpc>
              <a:spcAft>
                <a:spcPts val="1137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andle storage node failur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61880" indent="-357120">
              <a:lnSpc>
                <a:spcPct val="76000"/>
              </a:lnSpc>
              <a:spcAft>
                <a:spcPts val="1426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ora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0240" indent="-360360">
              <a:lnSpc>
                <a:spcPct val="76000"/>
              </a:lnSpc>
              <a:spcAft>
                <a:spcPts val="1137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dapt to LOFAR20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30240" indent="-360360">
              <a:lnSpc>
                <a:spcPct val="76000"/>
              </a:lnSpc>
              <a:spcAft>
                <a:spcPts val="1137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mprove performanc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61880" indent="-357120">
              <a:lnSpc>
                <a:spcPct val="76000"/>
              </a:lnSpc>
              <a:spcAft>
                <a:spcPts val="1426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lsar mode defini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461880" indent="-357120">
              <a:lnSpc>
                <a:spcPct val="76000"/>
              </a:lnSpc>
              <a:spcAft>
                <a:spcPts val="1426"/>
              </a:spcAft>
              <a:buClr>
                <a:srgbClr val="33cc66"/>
              </a:buClr>
              <a:buSzPct val="75000"/>
              <a:buFont typeface="Dingbats" charset="2"/>
              <a:buChar char="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napshot mode defini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OLAP LOFAR20 Step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09722-ACBF-4584-AA51-E671CB9A35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1th,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Romein</dc:creator>
  <dc:description/>
  <dc:language>en-US</dc:language>
  <cp:lastModifiedBy>John Romein</cp:lastModifiedBy>
  <cp:revision>0</cp:revision>
  <dc:subject/>
  <dc:title/>
</cp:coreProperties>
</file>